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C96-4E84-4EA2-B2EF-5ADD35E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71A-9147-45D7-A836-9AEA09FD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3ED-A66F-4B2F-870D-325F4E81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202-DADB-4471-9FB7-F1732CDA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624B-2BD7-4BD9-B154-B03EE81C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AEA-170D-4F7E-BFF8-3EE714D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BC86-F453-4D19-BA17-96837B5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A3F1-9791-42B9-A205-87CA53DE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CCBB-B3F0-4A26-B9E4-CE0BACF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F0F9-E6AC-4CFA-A1E5-9D061075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C38-B3D7-45CD-85AF-A01DB545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1C-48D8-44A6-BEDF-27D3EBDD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DD81-8FEA-4DDF-A5A0-1134FFC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1C0-66E1-476A-84A9-2414AC1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AD43-F1B2-4BFC-B17F-277F01A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8A5-DB52-4E92-BC39-739D16D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D6F0-411C-4AEA-9BE4-25CDA517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AA6-B496-440E-B0D2-97148FB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6DA-9BFF-486B-B1D7-EB296D7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CF4-EF9A-469A-A322-9EA8AA5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ED6-875B-4075-B742-07F04DF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75E-462D-47B0-985D-5841FBE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A48-2B52-475A-BCB8-CBF1974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08F-C2BB-47EC-8B2D-7B84832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CFDF-EB94-4C09-BF92-1B310FDE7B8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961-197B-4B87-9601-E5E522B6C52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.02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loor Treat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od Floor Applic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method is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STRI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oring. Nail down thin strips of wood that are tongue and grooved to keep them close toge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orative patterns (parqu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ilient Flo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Vi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ists stains, grease and ble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ble and easy to cl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st assortment of colors and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have no-wax fin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appearance of wood, stone, 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d in sheet form (no seams shown) or individual tiles (peel and stick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ilient Flo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Laminate- Manufact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fiberboard that is covered with a photo reproduction of wood, stone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layer of plastic provides protection from wear and t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ble, comfortable, resists dents and scr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inexpensive compared to real wood or 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eram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vailable in wide range of sizes, colors,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l to touch, hard, d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zed tile is water and stain resis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nsive to ins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ly used in bathrooms, entryways, and can be used in any room in warmer climates (Florida, Southwestern st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termine the number of square yards of floor covering needed in a roo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Multiply the length x width of room and divide by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ALWAYS ROUND U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nearest whole number, cannot buy if a po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10 feet x 10 feet = 100 ft/9 = 11.111=12y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ages 310-3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mes and Interi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ages 458, 555-55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or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the first background treatment planned in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purpose of room, amount of traffic, does it fit into color scheme of the room, what is the appearance, comfort, durability, cost, and mainten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 Floor Coverin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as carpets and 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late cold flo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sound control and walking com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color and texture to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Wall-to-w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overs an entire floor. Makes room appear larger, can hide a poor quality flo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be moved and some parts will show wear faster (especially in high traffic are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arpets are made from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NYL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Room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exposes a border of floor, usually hardwoods. These rugs may be expensive to cle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Area rug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vary in size, but do not cover the entire floor. Used to define specific areas of a room, can be a focal point, can moved to different parts of the home with ease. Some may be machine washe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under carpet and rugs to extend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ns wear and increases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luxury and warm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hair, jute, sponge, foam rub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expensive or very expens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 = high quality = long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Most pop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looring mater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s good with all styles of furni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beauty and warmth to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ble and resists 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is moderate to high depending on quality and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Wo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ically more expe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ak, hard maple, beech, birch, hickory, mahogany, cherry, t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ak is the most common because of beauty, warmth and dur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 Woo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thern yellow pine, Douglas fir, hem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wood, cedar, cypress, eastern white pine are also 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softer and dent eas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9:49:57Z</dcterms:created>
  <dc:creator>s.brooks</dc:creator>
  <dc:description/>
  <dc:language>en-US</dc:language>
  <cp:lastModifiedBy>s.brooks</cp:lastModifiedBy>
  <dcterms:modified xsi:type="dcterms:W3CDTF">2009-02-24T17:28:04Z</dcterms:modified>
  <cp:revision>14</cp:revision>
  <dc:subject/>
  <dc:title>4.02  Floor Treatments</dc:title>
</cp:coreProperties>
</file>